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11"/>
          </p:nvPr>
        </p:nvSpPr>
        <p:spPr>
          <a:xfrm>
            <a:off x="3885840" y="868680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4B5A5-C52C-4BFB-97DA-973A6692CF1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1F695-0E96-4DE0-83D1-57540454F53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78E4F-F5CE-44F5-91CC-2D14BFF9533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CA451-CC4B-4E68-8D67-6A47DE61F05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FA717-AB60-4D9B-BFB2-4755BA5B8D3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EF280-16C2-4DA8-8DC7-6708CB27D0F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79106-908B-4E88-851A-B441CDF59EE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DF871-5B51-441A-89DB-D821C30DA05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C6441-18F7-4C4B-BE5C-2A56581D0A3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E4922-C6F1-43BE-A52E-99B4AAD251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484DA-3DD4-48CA-92FA-17608052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40048-14D3-4318-83D0-43E843D3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22848-EDE2-4BDD-A232-1542A31385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96738-ED72-4295-877B-DE8A8CBCB3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17F2E-5E95-4F8F-8AED-DE78F377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43124-4A88-4443-BC9D-90842B3F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B690F-C0C0-4237-B021-D04ACC56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24EE3-6E19-464D-8F58-276F4B54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455FE-6A84-400D-B686-64C0F090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4C27B-C851-431B-8F7F-56DCF658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CB904-57A2-4446-B105-35A0D456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EF819-027C-496B-8C24-7C89E9AD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4F727-B694-47CF-B163-430B17B9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11E94-62C0-488A-A368-1AF48109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88C18-424E-4152-8323-671A1320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0457D-D02F-458F-B7EE-61D89289A3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7AC1-C180-4E7F-B15E-9AD61DB7FC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E080-13D9-4240-A589-9303C278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FBF4-3849-4C00-BE59-F44CE2D5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1094-7F68-4D79-9A67-BE7C729B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98BA-0CF0-4C3C-B8D9-55942E29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FB0A8-1911-481E-9297-E2CD2D0A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D221-6295-47A4-BBDE-D1BF5535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AFE2-DF02-4D4C-9B8B-E184AED8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A792-1169-496D-88B6-4D17751D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B195-FEF7-4443-9080-0CF36884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0A63-14F9-4EED-8C47-01EBFE7A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F537-FF36-411F-9796-4E746A5E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77AF-3BF7-43F0-A71B-D66B43B72A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D6DAF-C852-4D46-AAFD-B3D8552958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F2493C-68BF-4641-8254-BA48BC0A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AFB142-2895-42F7-BC61-41C4075C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F5963-B8B2-40CD-BD0F-6CC52D71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B5B7F-D312-41FF-88C4-A1F3B269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9E4083-FB91-4B97-96F7-7EF50E55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EB99C2-CE5C-448F-A159-CF62D9FA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9227BE-8212-4C48-A368-150880B7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69F573-EA71-443E-B80A-0447A2A1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4B0B10-483B-49DE-9618-CDBBFF13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40EB86-B724-4090-9543-153D276E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1A639B-6F25-432A-B0CB-E3F93F11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543AC9-60EF-41EA-B8C6-830D032FB7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6746BD-A702-4D44-BE8D-CAB9002980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425C1-7368-4688-97A5-A649FA9B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F42050-7EDE-491A-8040-C9CFE457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24AA22-7725-4283-876C-E70BDF62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C1B90B-BE0D-4531-A098-1CCA964B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500641-2804-429E-96CA-A45B787D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6772BE-7FF8-47E5-BF0F-0AD38DFE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6F286A-7470-4C46-8BB9-50C3984A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401C10-14C9-47E9-8F06-8D4825A7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5B60B6-8A2F-436A-BC8F-52F4D377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4821EB-7B6B-4F23-B3CB-5722396C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9AF33C-CB6B-48D2-877F-2361076D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71AAA-87DF-450E-989E-0AA09062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63139A-6BB4-44CC-B593-F8957FD869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57841-CA6B-4FA3-929E-B9BEE819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3087C-8318-484D-97DC-92BA44A3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E671A-F26B-4ECD-AD48-69BC2590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84200" y="5938920"/>
            <a:ext cx="3692520" cy="93348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17640" y="5788080"/>
            <a:ext cx="3414960" cy="1079280"/>
            <a:chOff x="-17640" y="5788080"/>
            <a:chExt cx="3414960" cy="107928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-17640" y="5788080"/>
              <a:ext cx="341496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6120" y="6421320"/>
              <a:ext cx="16938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-17640" y="5780160"/>
            <a:ext cx="3422880" cy="11001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6240" y="6408720"/>
            <a:ext cx="19130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3.07.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571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594D5-CF9B-456C-8F65-51E43E0C106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6726240" y="6408720"/>
            <a:ext cx="19130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3.07.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647200" y="6408720"/>
            <a:ext cx="3571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803854B-BD38-42E3-9AD1-8620D66EBD0B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4200" y="5938920"/>
            <a:ext cx="3692520" cy="93348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-17640" y="5788080"/>
            <a:ext cx="3414960" cy="1079280"/>
            <a:chOff x="-17640" y="5788080"/>
            <a:chExt cx="3414960" cy="1079280"/>
          </a:xfrm>
        </p:grpSpPr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-17640" y="5788080"/>
              <a:ext cx="341496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76120" y="6421320"/>
              <a:ext cx="16938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-17640" y="5780160"/>
            <a:ext cx="3422880" cy="1100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6726240" y="6408720"/>
            <a:ext cx="19130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3.07.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571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02D010-7912-48A5-BB98-4150FE3ACF70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726240" y="6408720"/>
            <a:ext cx="19130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3.07.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8"/>
          </p:nvPr>
        </p:nvSpPr>
        <p:spPr>
          <a:xfrm>
            <a:off x="8647200" y="6408720"/>
            <a:ext cx="3571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BF2AB42-1257-45BB-8BB5-E1AE3A7D1708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4200" y="5938920"/>
            <a:ext cx="3692520" cy="93348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-17640" y="5788080"/>
            <a:ext cx="3414960" cy="1079280"/>
            <a:chOff x="-17640" y="5788080"/>
            <a:chExt cx="3414960" cy="1079280"/>
          </a:xfrm>
        </p:grpSpPr>
        <p:pic>
          <p:nvPicPr>
            <p:cNvPr id="179" name="" descr=""/>
            <p:cNvPicPr/>
            <p:nvPr/>
          </p:nvPicPr>
          <p:blipFill>
            <a:blip r:embed="rId3"/>
            <a:stretch/>
          </p:blipFill>
          <p:spPr>
            <a:xfrm>
              <a:off x="-17640" y="5788080"/>
              <a:ext cx="341496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76120" y="6421320"/>
              <a:ext cx="16938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-17640" y="5780160"/>
            <a:ext cx="3422880" cy="1100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8663040" y="4989600"/>
            <a:ext cx="183960" cy="228600"/>
          </a:xfrm>
          <a:custGeom>
            <a:avLst/>
            <a:gdLst>
              <a:gd name="textAreaLeft" fmla="*/ 0 w 183960"/>
              <a:gd name="textAreaRight" fmla="*/ 184320 w 183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477280" y="4989600"/>
            <a:ext cx="183960" cy="228600"/>
          </a:xfrm>
          <a:custGeom>
            <a:avLst/>
            <a:gdLst>
              <a:gd name="textAreaLeft" fmla="*/ 0 w 183960"/>
              <a:gd name="textAreaRight" fmla="*/ 184320 w 183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9"/>
          </p:nvPr>
        </p:nvSpPr>
        <p:spPr>
          <a:xfrm>
            <a:off x="6726240" y="6408720"/>
            <a:ext cx="19130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13.07.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0"/>
          </p:nvPr>
        </p:nvSpPr>
        <p:spPr>
          <a:xfrm>
            <a:off x="8647200" y="6408720"/>
            <a:ext cx="3571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1B3345-BB1E-4519-9B27-2D6A9814CFFB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336760" y="4267080"/>
            <a:ext cx="66549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</a:rPr>
              <a:t>Новоминское сельское посе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</a:rPr>
              <a:t>БЮДЖЕТ ДЛЯ ГРАЖДАН 2023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D7BE4-F192-420F-9074-9D59C3B537A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F88F3-E23A-4F4C-9C3A-B01BD33A379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2E4D0-226E-448C-A21E-92453A999A4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" y="533520"/>
            <a:ext cx="82296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47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готовлен на основе требований Бюджетного Кодекса Российской  Федерации, решения Совета Новоминского сельского поселения Каневского района «О бюджетном процессе в Новоминском сельском поселении Каневского района», иных законодательных,  нормативных правовых актов Российской Федерации, Краснодарского края и Совета Новоминского сельского поселения Каневского райо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3ABB0-C41B-49F2-A079-B18D26AE282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857160"/>
            <a:ext cx="82296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По данным Управления Федерального казначейства по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Краснодарскому краю за 2023 год администрировало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доходы местного бюджета на общую сумм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 59 744,4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тыс. рублей, а именно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Налоговые и неналоговые доходы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48019,8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, в том числе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Налог на доходы физических лиц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9835,9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тыс.рублей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Единый сельскохозяйственный налог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521,5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Налог на имущество физических лиц –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2021,6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Земельный налог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7491,8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Денежные взыскания и штрафы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13,2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рублей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5040" indent="-24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Доходы от уплаты акцизов – на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7979,7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Безвозмездные поступления –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1724,6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 рублей, в том числе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8920" indent="-254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Субвенции бюджетам поселений на осуществление первичного воинского учета на территориях, где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осуществляют военные комиссариаты - на сумму 889,8 тыс. рублей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Субвенции бюджетам поселений на выполнение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передаваемых полномочий - на сумму 7,6 тыс.рублей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ежбюджетные трансферты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, передаваемые бюджетам муниципальных образований на осуществление части полномочий порешению вопросов местного значения в соответствии с заключенными соглашениями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- на сумму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5174,0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49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A5E4C-BA88-4271-A04D-BD75CCF52B3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03040" y="171360"/>
            <a:ext cx="84772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609480" y="514440"/>
            <a:ext cx="8221680" cy="5684760"/>
            <a:chOff x="609480" y="514440"/>
            <a:chExt cx="8221680" cy="5684760"/>
          </a:xfrm>
        </p:grpSpPr>
        <p:sp>
          <p:nvSpPr>
            <p:cNvPr id="245" name=""/>
            <p:cNvSpPr/>
            <p:nvPr/>
          </p:nvSpPr>
          <p:spPr>
            <a:xfrm>
              <a:off x="609480" y="514440"/>
              <a:ext cx="6289920" cy="10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3516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именова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3516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казател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07320" y="514440"/>
              <a:ext cx="1625400" cy="10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3516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ссово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3516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полне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3516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 2023 го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540640" y="514440"/>
              <a:ext cx="28224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540640" y="1031400"/>
              <a:ext cx="2822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9480" y="1549080"/>
              <a:ext cx="628992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ходы, все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07320" y="1549080"/>
              <a:ext cx="162540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9744,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540640" y="1549080"/>
              <a:ext cx="28224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9480" y="2064600"/>
              <a:ext cx="62899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кцизы по подакцизным товарам (продукции)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35160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изводимым на территории Российской Федераци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07320" y="2064600"/>
              <a:ext cx="16254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979,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540640" y="2064600"/>
              <a:ext cx="2822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9480" y="2583720"/>
              <a:ext cx="62899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логи на прибыль, доход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07320" y="2583720"/>
              <a:ext cx="16254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540640" y="2583720"/>
              <a:ext cx="2822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9480" y="3098160"/>
              <a:ext cx="628992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диный сельскохозяйственный налог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07320" y="3098160"/>
              <a:ext cx="162540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21,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540640" y="3098160"/>
              <a:ext cx="28224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9480" y="3612240"/>
              <a:ext cx="628992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лог на имущество физических ли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07320" y="3612240"/>
              <a:ext cx="162540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21,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540640" y="3612240"/>
              <a:ext cx="28224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480" y="4129560"/>
              <a:ext cx="62899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емельный налог с организаци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907320" y="4129560"/>
              <a:ext cx="16254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170,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540640" y="4129560"/>
              <a:ext cx="2822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9480" y="4647240"/>
              <a:ext cx="628992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емельный налог с физических ли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07320" y="4647240"/>
              <a:ext cx="162540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321,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540640" y="4647240"/>
              <a:ext cx="28224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9480" y="5164200"/>
              <a:ext cx="62899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Штрафы, санкции, возмещение ущерб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07320" y="5164200"/>
              <a:ext cx="16254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3,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540640" y="5164200"/>
              <a:ext cx="2822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9480" y="5681880"/>
              <a:ext cx="628992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езвозмездные поступлен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907320" y="5681880"/>
              <a:ext cx="162540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3080" indent="-335160" algn="ctr">
                <a:lnSpc>
                  <a:spcPct val="100000"/>
                </a:lnSpc>
                <a:tabLst>
                  <a:tab algn="l" pos="0"/>
                  <a:tab algn="l" pos="343080"/>
                  <a:tab algn="l" pos="790560"/>
                  <a:tab algn="l" pos="1239840"/>
                  <a:tab algn="l" pos="1689120"/>
                  <a:tab algn="l" pos="2138400"/>
                  <a:tab algn="l" pos="2587680"/>
                  <a:tab algn="l" pos="3036960"/>
                  <a:tab algn="l" pos="3486240"/>
                  <a:tab algn="l" pos="3935520"/>
                  <a:tab algn="l" pos="4384800"/>
                  <a:tab algn="l" pos="4834080"/>
                  <a:tab algn="l" pos="5283360"/>
                  <a:tab algn="l" pos="5732640"/>
                  <a:tab algn="l" pos="6181560"/>
                  <a:tab algn="l" pos="6630840"/>
                  <a:tab algn="l" pos="7080120"/>
                  <a:tab algn="l" pos="7529400"/>
                  <a:tab algn="l" pos="7978680"/>
                  <a:tab algn="l" pos="8427960"/>
                  <a:tab algn="l" pos="8877240"/>
                  <a:tab algn="l" pos="93265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724,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540640" y="5681880"/>
              <a:ext cx="28224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07320" y="514440"/>
              <a:ext cx="0" cy="567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540640" y="514440"/>
              <a:ext cx="0" cy="567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9480" y="1549080"/>
              <a:ext cx="7923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9480" y="2064600"/>
              <a:ext cx="7923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9480" y="2583720"/>
              <a:ext cx="7923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9480" y="3098160"/>
              <a:ext cx="7923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9480" y="3612240"/>
              <a:ext cx="7923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9480" y="4129560"/>
              <a:ext cx="7923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9480" y="4647240"/>
              <a:ext cx="7923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9480" y="5164200"/>
              <a:ext cx="7923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9480" y="5681880"/>
              <a:ext cx="7923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9480" y="514440"/>
              <a:ext cx="0" cy="567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831160" y="1031400"/>
              <a:ext cx="0" cy="509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9480" y="514440"/>
              <a:ext cx="7923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9480" y="6199200"/>
              <a:ext cx="7923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5E737-BD7C-4E7F-9790-4C75D4838EB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57200" y="1028880"/>
            <a:ext cx="8686800" cy="53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актическое исполнение и общие кассовы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ходы бюджетных ассигнований за 2023 год по  муниципальному образованию Новоминское сельское поселение Каневско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йон составили 78051,5 тыс.руб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ходы были осуществлены по следующим разделам бюджетной классификаци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100 «Общегосударственные вопросы»-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2856,8 тыс.рубле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200 «Национальная оборона»- 889,8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ыс.рубле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300 «Национальная безопасность 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авоохранительная деятельность»- 0,0 тыс.рубле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400 «Национальная экономика»- 15788,4 тыс.рубле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500 «ЖКХ»- 7897,1 тыс.рубле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700 «Образование»- 198,0 тыс.рубле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800 «Культура или кинематография»- 20687,7 тыс.рубле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000 «Социальная политика»- 1000,0 тыс.рубле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100 «Физическая культура и спорт»- 8719,5 тыс.рубле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8B4F8-2852-4D4B-983F-16351274E81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220680" y="452520"/>
            <a:ext cx="8477280" cy="64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7309B-BC31-4EB2-9B61-637C085B4DD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57200" y="457200"/>
            <a:ext cx="8229600" cy="58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25C3D-0A31-4294-8EF3-BA3D35254E3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7DBCC-DD0E-4C74-BD64-A7DCB81CBA4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57200" y="457200"/>
            <a:ext cx="8229600" cy="58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FCE0B-570E-42A9-BB87-5F09C6ADB81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logovik</dc:creator>
  <dc:description/>
  <dc:language>en-US</dc:language>
  <cp:lastModifiedBy>ГЫУК</cp:lastModifiedBy>
  <dcterms:modified xsi:type="dcterms:W3CDTF">2019-10-18T05:57:02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